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38A40-5252-4540-859E-8D995BEB8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9B7E6-E739-4F55-9DD8-D93DEEC1E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57729-73FC-4A02-9E4C-1D1862BFA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0DDC2-D8A7-41CA-8E56-8A33E885A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34653-7A60-4835-8A8F-A51EA3701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9DB94-A55A-4C72-9C9B-E8D747134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1C16B-EAD3-44DD-A810-31CB03599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66504-D602-417C-86B9-4FC23937F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70540-03BA-49CA-A37F-2862BDEA9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568D4-92F0-4CA6-BC73-33132784E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1EA0A-C0C5-4934-8223-F85E6C832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FA36B-C849-4516-AEC6-257FFDDD9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4539D-AC43-4FEF-8FA3-45E04BE1F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2F1D0-E8BF-40C3-A000-767E66931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5509B-D359-441B-924B-34D1A34B2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4A2CE-3E67-4A4C-851B-2F7FB6286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F8BFF-9823-4AE9-A02F-D5BAF1554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428C3-A153-4F04-8D6A-F9314B34D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393DA-CF40-43CB-B5A8-199A0C5A4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48EB0-C89E-4B13-81A5-19383468A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80B7E-D768-48AE-9130-BA0FB2D78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C0644-2D84-4F3F-883B-4643B2BAE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51FD8-F55B-4CFD-996A-34CF208B9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3F76B-5711-496C-A8BE-2926F06DB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119AC-C76E-4378-B3CB-AAF495D4860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D1A11-068E-4BA3-8B19-40547A7246A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hyperlink" Target="http://web.mit.edu/invent/i-archive.html" TargetMode="Externa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 rot="1008000">
            <a:off x="1599840" y="609120"/>
            <a:ext cx="4038480" cy="388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ff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M&amp;M's</a:t>
            </a:r>
            <a:endParaRPr b="0" lang="en-US" sz="1800" spc="1" strike="noStrike">
              <a:ln w="12600">
                <a:solidFill>
                  <a:srgbClr val="00ff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8" name=""/>
          <p:cNvSpPr/>
          <p:nvPr/>
        </p:nvSpPr>
        <p:spPr>
          <a:xfrm>
            <a:off x="6842160" y="4876920"/>
            <a:ext cx="1996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724280" y="5029200"/>
            <a:ext cx="327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b7"/>
                </a:solidFill>
                <a:latin typeface="Arial"/>
              </a:rPr>
              <a:t>Andrea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b7"/>
                </a:solidFill>
                <a:latin typeface="Arial"/>
              </a:rPr>
              <a:t>Monday, September 27 , 20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b7"/>
                </a:solidFill>
                <a:latin typeface="Arial"/>
              </a:rPr>
              <a:t>Computer # 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6705720" y="312408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533520" y="5791320"/>
            <a:ext cx="2895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usic: Free Play Music,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Video Game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-4-2010,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ww.freeplaymusic.c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6648480" y="0"/>
            <a:ext cx="2495520" cy="31212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5702040" y="586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lip art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Invention:M&amp;M’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design had been made on March 3, 1941, and  M&amp;M’s went on sal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candy was originally sold in paper tubes, the colors went to brown ,yellow ,orange ,red, green ,and then purple was replaced with ta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M on the M&amp;M’s was black then they made it whit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logo was “The milk chocolate is supposed to melt in your mouth not on your had!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rs has 30,000 employees working for him with worldwide sales of more then $20 billion per year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Inventor:Forrest Mars,SR.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rs was born on March 21 ,1904 in Minnesot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e went to the University of California then transferred to Yale University where he got a degree in industrial engineering in1928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is father Frank C. Mars had been operating a successful candy factory business in Chicago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n he handed it down to Forrest and invited him to work with hi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 Europe he worked at the same candy compani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e wanted to move back to the U.S and open his own business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mewhere in his travels he came across a candy that was essentially tiny chocolate pellets surrounded by a sugar shell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rs made his own version and started his own Hersey Corporation!!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n named in M&amp;M’s and that’s how the M&amp;M’s were invent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Mars"/>
          <p:cNvPicPr/>
          <p:nvPr/>
        </p:nvPicPr>
        <p:blipFill>
          <a:blip r:embed="rId1"/>
          <a:stretch/>
        </p:blipFill>
        <p:spPr>
          <a:xfrm>
            <a:off x="0" y="0"/>
            <a:ext cx="7772400" cy="239544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Mars"/>
          <p:cNvPicPr/>
          <p:nvPr/>
        </p:nvPicPr>
        <p:blipFill>
          <a:blip r:embed="rId2"/>
          <a:stretch/>
        </p:blipFill>
        <p:spPr>
          <a:xfrm>
            <a:off x="6564240" y="3505320"/>
            <a:ext cx="2579760" cy="335268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0" y="2819520"/>
            <a:ext cx="60768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b7"/>
                </a:solidFill>
                <a:latin typeface="Arial Black"/>
              </a:rPr>
              <a:t>Lemelson MIT program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b7"/>
                </a:solidFill>
                <a:latin typeface="Arial Black"/>
              </a:rPr>
              <a:t>Forrest Mars, SR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b7"/>
                </a:solidFill>
                <a:latin typeface="Arial Black"/>
              </a:rPr>
              <a:t>9-29-10</a:t>
            </a:r>
            <a:r>
              <a:rPr b="0" i="1" lang="en-US" sz="3600" spc="-1" strike="noStrike">
                <a:solidFill>
                  <a:srgbClr val="99ff66"/>
                </a:solidFill>
                <a:latin typeface="Arial Black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ff66"/>
                </a:solidFill>
                <a:uFillTx/>
                <a:latin typeface="Arial"/>
                <a:hlinkClick r:id="rId3"/>
              </a:rPr>
              <a:t>http://web.mit.edu/invent/i-archive.ht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7T17:33:10Z</dcterms:created>
  <dc:creator>install</dc:creator>
  <dc:description/>
  <dc:language>en-US</dc:language>
  <cp:lastModifiedBy>install</cp:lastModifiedBy>
  <dcterms:modified xsi:type="dcterms:W3CDTF">2010-10-13T17:54:46Z</dcterms:modified>
  <cp:revision>12</cp:revision>
  <dc:subject/>
  <dc:title>Slide 1</dc:title>
</cp:coreProperties>
</file>